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036D-05B0-4BCD-82E6-FF8A16E42A0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862D-5920-49B9-99FB-18719467D3C5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2392-6281-475E-9C78-AFFCAA3CCDF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5EB2-BE38-482C-9C5C-0F9F42090F7E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A8B-E281-4C47-9494-6DAC0359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210-E730-4392-B17E-AEFF51F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91A-84EA-4CF0-8165-C8D57947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299-D9FA-431B-94F1-18027C86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37B-5CD7-4E7A-8A10-862E3021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B2A-91D2-4F3E-92A9-4A0E5942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900-7048-4346-A1C3-A536D25D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194-4F24-4F6E-9521-5336CA8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031-4E64-43AF-8C49-C66AC75F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875-2A81-439C-AF7E-57256B2E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886-E552-417B-AFC4-764F073B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2D7-D312-4CCB-A024-908C0F72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F1C6-ECBF-475A-A4FD-3E2285CF652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2920" y="5727600"/>
            <a:ext cx="8893080" cy="6303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8000" y="71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Tahoma"/>
              </a:rPr>
              <a:t>CONTROLLO ED ASSICURAZIONE DELLA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85840" y="714240"/>
            <a:ext cx="867564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6600ff"/>
                </a:solidFill>
                <a:latin typeface="Tahoma"/>
              </a:rPr>
              <a:t>qu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la </a:t>
            </a:r>
            <a:r>
              <a:rPr b="1" lang="it-IT" sz="1600" spc="-1" strike="noStrike">
                <a:solidFill>
                  <a:srgbClr val="6600ff"/>
                </a:solidFill>
                <a:latin typeface="Tahoma"/>
              </a:rPr>
              <a:t>sicurezz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l'</a:t>
            </a:r>
            <a:r>
              <a:rPr b="1" lang="it-IT" sz="1600" spc="-1" strike="noStrike">
                <a:solidFill>
                  <a:srgbClr val="6600ff"/>
                </a:solidFill>
                <a:latin typeface="Tahoma"/>
              </a:rPr>
              <a:t>efficac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l preparato </a:t>
            </a:r>
            <a:r>
              <a:rPr b="1" lang="it-IT" sz="1600" spc="-1" strike="noStrike">
                <a:solidFill>
                  <a:srgbClr val="6600ff"/>
                </a:solidFill>
                <a:latin typeface="Tahoma"/>
              </a:rPr>
              <a:t>dipendon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all'uso corretto dei compon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ai calcoli esegu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all'accuratezza e dalla precisione delle pesate e dei volu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dal rispetto delle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a appropriate condizioni oper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1280" y="2716920"/>
            <a:ext cx="885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er i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preparati magistr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i controlli di qualità sul prodotto finito possono essere limitati a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emplici operazioni di verific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; per i preparati magistrali devono essere garantiti anche i limiti di accettabilità, di norma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ntro il 10 per cento del dichiara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5"/>
          <p:cNvSpPr/>
          <p:nvPr/>
        </p:nvSpPr>
        <p:spPr>
          <a:xfrm>
            <a:off x="71280" y="3643200"/>
            <a:ext cx="8858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i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preparati officin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eseguiti in scala ridotta la verifica sperimentale della conformità del preparato alle singole specifiche riportate nella Farmacopea … deve intendersi obbligat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Ciò non implica che sia obbligatorio effettuare l'insieme dei saggi di ciascuna monografia connesso con il preparato per valutare la conformità alla Farmac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ossono essere infatti usati, al fine di controllo,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metodi alternativi a condizione che permettano, senza equivoci, di decidere che le norme di Farmacopea sarebbero state soddisfatte qualora fossero stati usati i metodi uffic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569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ahoma"/>
              </a:rPr>
              <a:t>Il controllo finale dovrà essere eseguito da una persona diversa da quella che ha effettuato la preparazione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sono ammessi contratti ester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14200" y="365040"/>
            <a:ext cx="842976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i da effettuare sul prodotto fini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verifica del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rrettezza delle procedure esegui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o d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spet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o de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nfezion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 in particolare della sua tenu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verifica della corrett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mpilazione dell'etichet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ompresa l'indicazione delle modalità di conservazione e di ven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oltre, nell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orme farmaceutiche a dose un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i controller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'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uniformità di mass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e deve essere accertata su un campione la cui dimensione dipende dalla consistenza numerica delle dosi forma.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essuna dose forma del campione dovrà discostarsi dal 10% del peso med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Nel caso delle capsule, il controllo dell'uniformità di massa si effettuerà sulle </a:t>
            </a:r>
            <a:r>
              <a:rPr b="1" lang="it-IT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capsule pie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la quantità o il numero di dosi forma da dispens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 caso di soluzioni si controller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'aspetto e l'assenza di particelle visibili a occhio nud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l pH, se necess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 caso di emulsioni o sospensioni si controller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'aspetto del prepara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a ridispersibilità delle fa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71280" y="284040"/>
            <a:ext cx="8929800" cy="627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LI DI QUALITA’ FORMULE MAGIST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l preparatore assicura sotto la sua personale responsabilità e documenta la qualità e la quantità dei prodotti usati, la correttezza delle operazioni eseguite e l’esatta rispondenza alle procedure stabilite in accordo con codici di preparazione accreditati dalla Federazione degli Ordini dei Farmacisti Italiani (FOFI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Paragrafo 8 – NB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l farmacista responsabile effettua sul prodotto finito i seguenti controll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ica della correttezza delle procedure esegu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lo dell’aspett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lo del confezionamento primario e della sua tenu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ica della corretta compilazione dell’etichetta compresa l’indicazione delle modalità di conservazione e di vendi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uniformità di massa che deve essere accertata su un campione la cui dimensione dipende dalla consistenza numerica delle dosi forma. Nessuna dose forma del campione dovrà discostarsi dal +10/-10 per cento del peso medio (forme farmaceutiche a dose unic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a </a:t>
            </a:r>
            <a:r>
              <a:rPr b="1" lang="it-IT" sz="1400" spc="-1" strike="noStrike">
                <a:solidFill>
                  <a:srgbClr val="008000"/>
                </a:solidFill>
                <a:latin typeface="Tahoma"/>
                <a:ea typeface="Times New Roman"/>
              </a:rPr>
              <a:t>quantità delle dosi da dispensar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ssenza di particelle visibili a occhio nudo ed eventualmente il pH (forme farmaceutiche liquid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spetto del preparato e la ridispersibilità delle fasi (emulsioni e sospensioni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e si preparano forme farmaceutiche obbligatoriamente sterili o a carica microbica controllata si deve far riferimento alla procedura “Aspetti microbiologici dei preparati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Effettuati i controlli, il farmacista responsabile del laboratorio daterà e firmerà il foglio di lavoro, garantendo nel contempo la qualità e la quantità delle materie prime utilizzate, il rispetto delle procedure stabilite e la rispondenza con le procedure di preparaz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Il farmacista responsabile può far eseguire i controlli ad un altro farmacista, purché diverso dal farmacista preparator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71280" y="322200"/>
            <a:ext cx="8931600" cy="64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LI DI QUALITA’ FORMULE OFFICIN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l farmacista effettua sul prodotto finito i seguenti controll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ica della correttezza delle procedure esegui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lo dell’aspet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lo del confezionamento primario e della sua tenu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ica della corretta compilazione dell’etichetta compresa l’indicazione delle modalità di conservazione e di vendi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uniformità di massa che deve essere accertata su un campione la cui dimensione dipende dalla consistenza numerica delle dosi forma. Nessuna dose forma del campione dovrà discostarsi dal +10/-10 per cento del peso medio (forme farmaceutiche a dose unic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 quantità delle dosi da dispensa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ssenza di particelle visibili a occhio nudo ed eventualmente il pH (forme farmaceutiche liquide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spetto del preparato e la ridispersibilità delle fasi (emulsioni e sospension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e si preparano forme farmaceutiche obbligatoriamente sterili o a carica microbica controllata si deve far riferimento alla procedura “Aspetti microbiologici dei preparati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Per tutte le preparazioni officinali è opportuno conservare, per eventuali verifiche, un campione del lotto allestito per almeno un mese dopo la data limite di utilizz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ffettuati i controlli, il farmacista responsabile del laboratorio daterà e firmerà il foglio di lavoro, garantendo nel contempo la qualità e la quantità delle materie prime utilizzate, il rispetto delle procedure stabilite e la rispondenza con le procedure di prepara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l farmacista responsabile  può far eseguire i controlli ad un altro farmacista, purché diverso dal farmacista preparatore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53:50Z</dcterms:created>
  <dc:creator>...</dc:creator>
  <dc:description/>
  <dc:language>en-US</dc:language>
  <cp:lastModifiedBy>...</cp:lastModifiedBy>
  <dcterms:modified xsi:type="dcterms:W3CDTF">2009-05-14T19:54:16Z</dcterms:modified>
  <cp:revision>1</cp:revision>
  <dc:subject/>
  <dc:title>Diapositiva 1</dc:title>
</cp:coreProperties>
</file>